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75AB-7F31-4D45-B708-71A0FF5C7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4074A-9037-49CE-9CBC-551538FE73A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37D84-CC96-4A15-A402-15D7A310756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7C511-1067-4341-98F6-48A59116B7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EB0D-3B7C-47E4-9F01-54C2CCE16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A584-121F-4C92-B4B0-E89A980CD7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DA8FB-7562-404B-82D0-F0432187FBB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A9CF-7955-4E96-9F22-BFE594ECB2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B629-5975-42E9-9CD2-333B5A2BB63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39487-935E-4BD5-993D-BA80745D95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F69CE-C6E7-4175-9399-BE9864AD037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5127-3B3B-4CDF-B6FE-5B3CB1EE2A5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346280"/>
            <a:ext cx="8305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13480" y="159984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13480" y="4346280"/>
            <a:ext cx="40532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6592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4280" y="159984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6592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4280" y="4346280"/>
            <a:ext cx="26744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0" y="464832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0" y="4724280"/>
            <a:ext cx="146376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1"/>
          <p:cNvSpPr/>
          <p:nvPr/>
        </p:nvSpPr>
        <p:spPr>
          <a:xfrm>
            <a:off x="1544760" y="4724280"/>
            <a:ext cx="7599240" cy="712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2" descr=""/>
          <p:cNvPicPr/>
          <p:nvPr/>
        </p:nvPicPr>
        <p:blipFill>
          <a:blip r:embed="rId2"/>
          <a:stretch/>
        </p:blipFill>
        <p:spPr>
          <a:xfrm>
            <a:off x="225360" y="7308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821720" y="128520"/>
            <a:ext cx="1120680" cy="111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4"/>
          <a:stretch/>
        </p:blipFill>
        <p:spPr>
          <a:xfrm>
            <a:off x="380880" y="601992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2"/>
          <a:stretch/>
        </p:blipFill>
        <p:spPr>
          <a:xfrm>
            <a:off x="128520" y="1573200"/>
            <a:ext cx="1041480" cy="10414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3" descr=""/>
          <p:cNvPicPr/>
          <p:nvPr/>
        </p:nvPicPr>
        <p:blipFill>
          <a:blip r:embed="rId3"/>
          <a:stretch/>
        </p:blipFill>
        <p:spPr>
          <a:xfrm>
            <a:off x="7997760" y="1444680"/>
            <a:ext cx="1146240" cy="1146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80880" y="6068880"/>
            <a:ext cx="1430280" cy="728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d9"/>
            </a:gs>
            <a:gs pos="100000">
              <a:srgbClr val="88a1a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70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700"/>
              </a:spcBef>
              <a:buClr>
                <a:srgbClr val="ffc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228600">
              <a:spcBef>
                <a:spcPts val="700"/>
              </a:spcBef>
              <a:buClr>
                <a:srgbClr val="8cada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28600">
              <a:spcBef>
                <a:spcPts val="700"/>
              </a:spcBef>
              <a:buClr>
                <a:srgbClr val="8c7b7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1600200" y="54860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1600200" y="48002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ding Teams</a:t>
            </a:r>
            <a:endParaRPr b="0" i="1" lang="en-US" sz="28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1560240" y="-360"/>
            <a:ext cx="75834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High Leverage Behaviors</a:t>
            </a:r>
            <a:br>
              <a:rPr sz="4000"/>
            </a:br>
            <a:r>
              <a:rPr b="0" i="1" lang="en-US" sz="4000" spc="-1" strike="noStrike">
                <a:solidFill>
                  <a:srgbClr val="646b86"/>
                </a:solidFill>
                <a:latin typeface="Arial"/>
              </a:rPr>
              <a:t>Losada: Flourishing Teams</a:t>
            </a:r>
            <a:endParaRPr b="0" i="1" lang="en-US" sz="40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16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ositive vs. Neg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ositive: support, appreciation, encourage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Negative: disapproval, sarcasm, cynicis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quiry vs Advoc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nquiry: questions to explore others’ thinking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Advocacy: championing my own view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ther vs 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Other: refer to another person, group,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lf: refer to self, this group this compan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Ratios – Not Quantities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pic>
        <p:nvPicPr>
          <p:cNvPr id="518" name="Content Placeholder 3" descr="Screen Shot 2014-09-03 at 11.06.34 AM.png"/>
          <p:cNvPicPr/>
          <p:nvPr/>
        </p:nvPicPr>
        <p:blipFill>
          <a:blip r:embed="rId1"/>
          <a:srcRect l="0" t="-16613" r="0" b="-16613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Destroying Behaviors </a:t>
            </a:r>
            <a:br>
              <a:rPr sz="4400"/>
            </a:b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reating a damaging environment</a:t>
            </a:r>
            <a:r>
              <a:rPr b="0" i="1" lang="ja-JP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0" name="Rectangle 8"/>
          <p:cNvSpPr/>
          <p:nvPr/>
        </p:nvSpPr>
        <p:spPr>
          <a:xfrm>
            <a:off x="271440" y="1389240"/>
            <a:ext cx="8618400" cy="60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524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Holding Back/Holding in</a:t>
            </a:r>
            <a:r>
              <a:rPr b="1" lang="en-GB" sz="1500" spc="-1" strike="noStrike">
                <a:solidFill>
                  <a:srgbClr val="009286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contributing because something/someone hurt you. Your energy is held in, you are physically present but your true energy is abs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Blaming/Accusative Tone-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being constructive. You are here to find someone to beat up verbally, the tone of your voice is signalling it is someone else’s faul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missive/Diminishing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ople are speaking, but you are not attending to them. When you do respond it is to minimize or diminish the significance of what was sai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Fightback not feedback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felt attacked or punished rather than given constructive feedback. You decide to attack back and an aggressive spiral develops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Gotchya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You are not having an open conversation, you are selectively listening and drawing in the other person to a place where there can be only one conclusion, yours! You win, they los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ompensation/Displacement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- Someone or something annoyed you, but rather than address the issue, you compensate or offset the feeling by doing something els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Cynicism -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Rather than constructively disagree, you use exaggeration, negative amplification</a:t>
            </a: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and apparent humour to divert away from the point being mad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56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Arial"/>
              </a:rPr>
              <a:t>Discouraging feedback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- You block feedback and punish those who try to give it, you are not interested in the perceptions of others, you project superiority which may be masking anxie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Object 2"/>
          <p:cNvGraphicFramePr/>
          <p:nvPr/>
        </p:nvGraphicFramePr>
        <p:xfrm>
          <a:off x="7924680" y="6095880"/>
          <a:ext cx="94140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6095880"/>
                    <a:ext cx="94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18"/>
          <p:cNvSpPr/>
          <p:nvPr/>
        </p:nvSpPr>
        <p:spPr>
          <a:xfrm>
            <a:off x="103320" y="6400800"/>
            <a:ext cx="286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Value Building Behaviors 6+2</a:t>
            </a:r>
            <a:br>
              <a:rPr sz="4400"/>
            </a:b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i="1" lang="en-US" sz="3200" spc="-1" strike="noStrike">
                <a:solidFill>
                  <a:srgbClr val="008000"/>
                </a:solidFill>
                <a:latin typeface="Arial"/>
              </a:rPr>
              <a:t>Creating a flourishing environment</a:t>
            </a:r>
            <a:r>
              <a:rPr b="0" i="1" lang="ja-JP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i="1" lang="en-US" sz="32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262080" y="1523880"/>
            <a:ext cx="86184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Active Listening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elps me really understand your position, and makes you feel signific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Open Question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courages you to share thoughts, ideas and fee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mmarising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nables us to have the same understanding of the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uppor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shows I appreciate you and your contribution – allows me to build on your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halleng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is how I constructively disagree with you and how I can help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Clarify or Contrac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me to know exactly what I will do, why I am doing it and how my efforts fit in with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Time Ou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ops the action so we can re-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576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Review and Feedback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ables us to continuously improve our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0" y="6324480"/>
            <a:ext cx="278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Comic Sans MS"/>
              </a:rPr>
              <a:t>www.mobilizingteams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Object 2"/>
          <p:cNvGraphicFramePr/>
          <p:nvPr/>
        </p:nvGraphicFramePr>
        <p:xfrm>
          <a:off x="8199360" y="6259680"/>
          <a:ext cx="94140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9360" y="6259680"/>
                    <a:ext cx="94140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46b86"/>
                </a:solidFill>
                <a:latin typeface="Arial"/>
              </a:rPr>
              <a:t>Personal Energy Management</a:t>
            </a:r>
            <a:endParaRPr b="0" i="1" lang="en-US" sz="4400" spc="-1" strike="noStrike">
              <a:solidFill>
                <a:srgbClr val="646b86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533520" y="1600200"/>
            <a:ext cx="8232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c00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 with your partner to discu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old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our new stor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ultimate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is your first training mission (physical, mental, emotional spiritual)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y did you pick this to be your first mission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esearch have you gathered to help you understand this mission more fully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rituals have you put in pla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progress have you made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ve others noticed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550"/>
              </a:spcBef>
              <a:buClr>
                <a:srgbClr val="0070c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w has it impacted your leadership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4T18:49:19Z</dcterms:created>
  <dc:creator>Trish Mooney</dc:creator>
  <dc:description/>
  <dc:language>en-US</dc:language>
  <cp:lastModifiedBy>Claire Meany</cp:lastModifiedBy>
  <dcterms:modified xsi:type="dcterms:W3CDTF">2016-06-04T12:53:10Z</dcterms:modified>
  <cp:revision>11</cp:revision>
  <dc:subject/>
  <dc:title>WELCOME TO....</dc:title>
</cp:coreProperties>
</file>